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7396-D978-4A75-AF56-DED2FE59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DCFE-FC66-4BE6-83F4-18D6BCDE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70FE-7AC8-4248-9514-5864107F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EDBD-D952-4DC5-BE03-D0B9EEC5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B193-EA93-4A01-A894-75A32C76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F01C-4390-44E9-A90E-840DC629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A1DD-C695-471F-8516-CDC02616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A76F-54A1-403C-9164-164FBEFC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440C-3154-4213-A185-21C8001E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8094-F295-4E97-9AA6-8C17C22C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53E8-5BA4-485C-91B3-145CC39D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659F-CEE3-48D9-837C-6FF5E9D0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1522-4A39-46CF-9225-3A2222975491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770256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75e47"/>
                </a:solidFill>
                <a:latin typeface="Cambria"/>
              </a:rPr>
              <a:t>О промежуточных итогах реформирования системы здравоохранения ХМАО-Югры. </a:t>
            </a:r>
            <a:br>
              <a:rPr sz="2500"/>
            </a:br>
            <a:r>
              <a:rPr b="1" lang="ru-RU" sz="2500" spc="-1" strike="noStrike">
                <a:solidFill>
                  <a:srgbClr val="675e47"/>
                </a:solidFill>
                <a:latin typeface="Cambria"/>
              </a:rPr>
              <a:t>Опыт преобразования муниципальных медицинских организаций автономного округа</a:t>
            </a:r>
            <a:r>
              <a:rPr b="0" lang="ru-RU" sz="25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25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63640" y="491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42f23"/>
                </a:solidFill>
                <a:latin typeface="Calibri"/>
              </a:rPr>
              <a:t>Главный врач БУ «Сургутская городская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42f23"/>
                </a:solidFill>
                <a:latin typeface="Calibri"/>
              </a:rPr>
              <a:t>клиническая поликлиника №1»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42f23"/>
                </a:solidFill>
                <a:latin typeface="Calibri"/>
              </a:rPr>
              <a:t>кандидат медицинских наук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42f23"/>
                </a:solidFill>
                <a:latin typeface="Calibri"/>
              </a:rPr>
              <a:t>Максим Николаевич Слепов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5e47"/>
                </a:solidFill>
                <a:latin typeface="Times New Roman"/>
              </a:rPr>
              <a:t>Краткая характеристика </a:t>
            </a:r>
            <a:br>
              <a:rPr sz="2200"/>
            </a:br>
            <a:r>
              <a:rPr b="0" lang="ru-RU" sz="2200" spc="-1" strike="noStrike">
                <a:solidFill>
                  <a:srgbClr val="675e47"/>
                </a:solidFill>
                <a:latin typeface="Times New Roman"/>
              </a:rPr>
              <a:t>БУ «Сургутская городская клиническая поликлиника №1» 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785520"/>
            <a:ext cx="78296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3 основных здания общей площадью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13908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  кв.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Мощнос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1287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 посещений в смену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4 дневных стационара мощностью 74 койки, работающих в 2-3 смены (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174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 пациенто-места)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29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 медицинских  кабинетов в образовательных учреждениях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729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 основных сотрудников, из них 168 врачей, 392 средних медицинских работник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Прикрепленное население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95 161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</a:rPr>
              <a:t> человека (74 784 – взрослые, 20 377 - дети)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5202360"/>
            <a:ext cx="3087720" cy="165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5867280" y="5202360"/>
            <a:ext cx="2592360" cy="1635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F:\Новая папка\P1010427.JPG"/>
          <p:cNvPicPr/>
          <p:nvPr/>
        </p:nvPicPr>
        <p:blipFill>
          <a:blip r:embed="rId3"/>
          <a:stretch/>
        </p:blipFill>
        <p:spPr>
          <a:xfrm>
            <a:off x="3087720" y="5202360"/>
            <a:ext cx="27795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6197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5e47"/>
                </a:solidFill>
                <a:latin typeface="Times New Roman"/>
              </a:rPr>
              <a:t>Штатная и физическая численность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0920" y="1268280"/>
          <a:ext cx="7931160" cy="4491000"/>
        </p:xfrm>
        <a:graphic>
          <a:graphicData uri="http://schemas.openxmlformats.org/drawingml/2006/table">
            <a:tbl>
              <a:tblPr/>
              <a:tblGrid>
                <a:gridCol w="2898720"/>
                <a:gridCol w="1755720"/>
                <a:gridCol w="1636560"/>
                <a:gridCol w="1640160"/>
              </a:tblGrid>
              <a:tr h="5619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атегория персонал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Штатное расписание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1144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Изменения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утвержденное на начало года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уточненное на 01.11.20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ачебный медицинский персонал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303,2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303,2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535,7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535,7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ладший персонал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08,7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44,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-64,7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28,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92,7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64,7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075,7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1075,7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1268280"/>
          <a:ext cx="7991640" cy="4556160"/>
        </p:xfrm>
        <a:graphic>
          <a:graphicData uri="http://schemas.openxmlformats.org/drawingml/2006/table">
            <a:tbl>
              <a:tblPr/>
              <a:tblGrid>
                <a:gridCol w="2664000"/>
                <a:gridCol w="2663640"/>
                <a:gridCol w="2664000"/>
              </a:tblGrid>
              <a:tr h="127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Категория персонала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Количество физических лиц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Доля в общей численности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1368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Врачи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23%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Средний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3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53,7%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Младший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3,8%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Прочие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14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19,3%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Всего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729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2b20"/>
                          </a:solidFill>
                          <a:latin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2b20"/>
                      </a:solidFill>
                    </a:lnL>
                    <a:lnR w="1368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13680">
                      <a:solidFill>
                        <a:srgbClr val="2f2b2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Rectangle 42"/>
          <p:cNvSpPr/>
          <p:nvPr/>
        </p:nvSpPr>
        <p:spPr>
          <a:xfrm>
            <a:off x="684360" y="260280"/>
            <a:ext cx="76197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5e47"/>
                </a:solidFill>
                <a:latin typeface="Times New Roman"/>
              </a:rPr>
              <a:t>Штатная и физическая численность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5e47"/>
                </a:solidFill>
                <a:latin typeface="Times New Roman"/>
              </a:rPr>
              <a:t>Динамика поступления финансовых средств в </a:t>
            </a:r>
            <a:br>
              <a:rPr sz="2200"/>
            </a:br>
            <a:r>
              <a:rPr b="1" lang="ru-RU" sz="2200" spc="-1" strike="noStrike">
                <a:solidFill>
                  <a:srgbClr val="675e47"/>
                </a:solidFill>
                <a:latin typeface="Times New Roman"/>
              </a:rPr>
              <a:t>системе ОМС за период 2013 -2014 года 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5" name="Object 6"/>
          <p:cNvGraphicFramePr/>
          <p:nvPr/>
        </p:nvGraphicFramePr>
        <p:xfrm>
          <a:off x="324000" y="1413000"/>
          <a:ext cx="77040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13000"/>
                    <a:ext cx="77040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7"/>
          <p:cNvSpPr/>
          <p:nvPr/>
        </p:nvSpPr>
        <p:spPr>
          <a:xfrm rot="20628000">
            <a:off x="3490560" y="256500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2b20"/>
                </a:solidFill>
                <a:latin typeface="Arial"/>
              </a:rPr>
              <a:t>18 034,22 (2,8%)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5e47"/>
                </a:solidFill>
                <a:latin typeface="Times New Roman"/>
              </a:rPr>
              <a:t>Положительные стороны реформирования </a:t>
            </a:r>
            <a:br>
              <a:rPr sz="2200"/>
            </a:br>
            <a:r>
              <a:rPr b="1" lang="ru-RU" sz="2200" spc="-1" strike="noStrike">
                <a:solidFill>
                  <a:srgbClr val="675e47"/>
                </a:solidFill>
                <a:latin typeface="Times New Roman"/>
              </a:rPr>
              <a:t>системы здравоохранения ХМАО-Югры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4920" y="1628280"/>
            <a:ext cx="80643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Изменение статуса учреждения привело к повышению управляемости и  осуществлению более эффективного контроля над рациональным и целевым расходованием средств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В текущем году учреждением уже реализован ряд мер, направленных на эффективное использование поступающих средств. Это  перевод части непрофильных функций на аутсорсинг и перепрофилирование (сокращение) отдельных штатных должностей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5e47"/>
                </a:solidFill>
                <a:latin typeface="Times New Roman"/>
              </a:rPr>
              <a:t>Основные проблемы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</a:rPr>
              <a:t>Объем  предоставляемых субсидий</a:t>
            </a: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 не обеспечивает  необходимого обновления медицинского оборудования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</a:rPr>
              <a:t>Необходимость выделения дополнительных средств  на проведение капитального ремонта зданий</a:t>
            </a: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</a:rPr>
              <a:t>Значительный дефицит площадей и наличие приспособленных зданий</a:t>
            </a: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2b20"/>
                </a:solidFill>
                <a:latin typeface="Times New Roman"/>
              </a:rPr>
              <a:t>Обеспеченность медицинскими работниками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1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93536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162920" y="4038480"/>
            <a:ext cx="190476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5638680" y="76320"/>
            <a:ext cx="141948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4"/>
          <a:stretch/>
        </p:blipFill>
        <p:spPr>
          <a:xfrm>
            <a:off x="2209680" y="76320"/>
            <a:ext cx="1600200" cy="2133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"/>
          <p:cNvPicPr/>
          <p:nvPr/>
        </p:nvPicPr>
        <p:blipFill>
          <a:blip r:embed="rId5"/>
          <a:stretch/>
        </p:blipFill>
        <p:spPr>
          <a:xfrm>
            <a:off x="7162920" y="76320"/>
            <a:ext cx="1866960" cy="37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6"/>
          <a:stretch/>
        </p:blipFill>
        <p:spPr>
          <a:xfrm>
            <a:off x="3962520" y="76320"/>
            <a:ext cx="1523880" cy="2133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"/>
          <p:cNvPicPr/>
          <p:nvPr/>
        </p:nvPicPr>
        <p:blipFill>
          <a:blip r:embed="rId7"/>
          <a:stretch/>
        </p:blipFill>
        <p:spPr>
          <a:xfrm>
            <a:off x="4876920" y="4722840"/>
            <a:ext cx="2133360" cy="205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"/>
          <p:cNvPicPr/>
          <p:nvPr/>
        </p:nvPicPr>
        <p:blipFill>
          <a:blip r:embed="rId8"/>
          <a:stretch/>
        </p:blipFill>
        <p:spPr>
          <a:xfrm>
            <a:off x="2133720" y="4695840"/>
            <a:ext cx="2361960" cy="208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"/>
          <p:cNvPicPr/>
          <p:nvPr/>
        </p:nvPicPr>
        <p:blipFill>
          <a:blip r:embed="rId9"/>
          <a:stretch/>
        </p:blipFill>
        <p:spPr>
          <a:xfrm>
            <a:off x="152280" y="3209760"/>
            <a:ext cx="1905120" cy="3571920"/>
          </a:xfrm>
          <a:prstGeom prst="rect">
            <a:avLst/>
          </a:prstGeom>
          <a:ln w="0">
            <a:noFill/>
          </a:ln>
        </p:spPr>
      </p:pic>
      <p:sp>
        <p:nvSpPr>
          <p:cNvPr id="71" name="WordArt 21"/>
          <p:cNvSpPr txBox="1"/>
          <p:nvPr/>
        </p:nvSpPr>
        <p:spPr>
          <a:xfrm>
            <a:off x="2357280" y="3786120"/>
            <a:ext cx="45720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Picture 14" descr="внутр-бланк-влож"/>
          <p:cNvPicPr/>
          <p:nvPr/>
        </p:nvPicPr>
        <p:blipFill>
          <a:blip r:embed="rId10"/>
          <a:stretch/>
        </p:blipFill>
        <p:spPr>
          <a:xfrm>
            <a:off x="2124000" y="2276640"/>
            <a:ext cx="50403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9:59:09Z</dcterms:created>
  <dc:creator>Оператор</dc:creator>
  <dc:description/>
  <dc:language>en-US</dc:language>
  <cp:lastModifiedBy>SklyarovaMS</cp:lastModifiedBy>
  <cp:lastPrinted>2014-11-16T10:16:59Z</cp:lastPrinted>
  <dcterms:modified xsi:type="dcterms:W3CDTF">2014-11-16T10:17:03Z</dcterms:modified>
  <cp:revision>74</cp:revision>
  <dc:subject/>
  <dc:title>Функционирование медицинских организаций ХМАО-Югры в условиях одноканального финансирования здравоохранения  на примере  муниципального бюджетного учреждения здравоохранения  «Клиническая городская поликлиника №1» города Сургута</dc:title>
</cp:coreProperties>
</file>